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69D8-8059-412C-9253-F24B9F35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47DD-D693-4A40-9782-016B0199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F20-C8DD-4E05-AD43-65845359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1D80-A5CF-4EFD-9043-DB0C8CBB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91AE-D113-4EE7-B4FB-E783451C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34B-EEBC-4ACD-87DF-5122C176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EE8-3B19-4B55-91A7-365A3FBD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47BC-2FD8-44EE-82BE-4236886F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3523-0F88-4182-A705-6A6DB253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B91-189F-4502-B824-1FE5AF77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2E72-E26A-4A07-BFC4-1AC9574F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7F1D-A67A-4DDE-8A01-D5557BA6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467B-51F6-48A0-BF3B-4E9867962D8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6T12:27:49Z</dcterms:created>
  <dc:creator>Richard</dc:creator>
  <dc:description/>
  <dc:language>en-US</dc:language>
  <cp:lastModifiedBy>Richard</cp:lastModifiedBy>
  <dcterms:modified xsi:type="dcterms:W3CDTF">2015-07-16T12:28:33Z</dcterms:modified>
  <cp:revision>1</cp:revision>
  <dc:subject/>
  <dc:title>TEST</dc:title>
</cp:coreProperties>
</file>